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19D-42FD-49E0-A11E-7BD48CBA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6A11-987A-4CA8-8E30-0054A2A4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55E-2B4B-43AD-839E-9C48860F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6C2-6D7B-4124-ADD4-CE430E61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F146-9ACD-4E3E-BA43-19C863B2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1DE-A5CD-4E09-9B5F-50B7BD8B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9E0B-729E-4BB1-9BE7-47E25F1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FC35-8057-4AAA-BC5D-03BD1957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23D-8D55-48BF-A815-3E6A9BF1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851-B6A4-4550-9863-A7E6250F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B18-FBD9-4737-98AE-4EF43FE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93E-5B47-4BEF-A4F2-4CBCA55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6B9B-F017-431A-A248-0135122E5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Solving%20Multi%20Step%20equations.noteboo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Simplify%20and%20solve.notebook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Some MORE ste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90920" y="3429000"/>
            <a:ext cx="1523880" cy="838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438280"/>
            <a:ext cx="990720" cy="2133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457200"/>
            <a:ext cx="1371600" cy="2286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38280" y="685800"/>
                <a:ext cx="52578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0" y="914400"/>
            <a:ext cx="198108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s you usually w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1371600"/>
            <a:ext cx="175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53352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-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9880" y="762120"/>
            <a:ext cx="99072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1600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2743200"/>
            <a:ext cx="106668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28800" y="2590920"/>
                <a:ext cx="43704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886200"/>
            <a:ext cx="251460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you have to get rid of the x on the right side of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267080" y="3352680"/>
                <a:ext cx="12891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3429000"/>
                <a:ext cx="12888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449568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35268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4495680"/>
            <a:ext cx="18288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895480" y="4495680"/>
                <a:ext cx="354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5867280"/>
            <a:ext cx="213372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by dividing both sides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54100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54100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5334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533412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648320"/>
            <a:ext cx="99072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5562720"/>
            <a:ext cx="990360" cy="761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629400" y="6049800"/>
                <a:ext cx="220968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 the steps of solving this equation in the right or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133360" y="3581280"/>
            <a:ext cx="4800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oth sides by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2x to both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4 to both 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523880" y="2057400"/>
                <a:ext cx="6096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886200" y="571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417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happens if the equation is not simpl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743200"/>
            <a:ext cx="8458200" cy="7034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SIMPLIFY first and then solv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752480" y="4114800"/>
                <a:ext cx="6096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0" y="533520"/>
            <a:ext cx="1828800" cy="13716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457200"/>
            <a:ext cx="1676520" cy="1523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143000" y="533520"/>
                <a:ext cx="74232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828800" y="2133720"/>
            <a:ext cx="396252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TILES to simpl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19320" y="3048120"/>
            <a:ext cx="1676160" cy="2286000"/>
            <a:chOff x="1219320" y="3048120"/>
            <a:chExt cx="1676160" cy="2286000"/>
          </a:xfrm>
        </p:grpSpPr>
        <p:sp>
          <p:nvSpPr>
            <p:cNvPr id="51" name=""/>
            <p:cNvSpPr/>
            <p:nvPr/>
          </p:nvSpPr>
          <p:spPr>
            <a:xfrm>
              <a:off x="121932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3048120"/>
              <a:ext cx="45720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00400" y="3733920"/>
            <a:ext cx="457200" cy="1218960"/>
            <a:chOff x="3200400" y="3733920"/>
            <a:chExt cx="457200" cy="1218960"/>
          </a:xfrm>
        </p:grpSpPr>
        <p:sp>
          <p:nvSpPr>
            <p:cNvPr id="55" name=""/>
            <p:cNvSpPr/>
            <p:nvPr/>
          </p:nvSpPr>
          <p:spPr>
            <a:xfrm>
              <a:off x="3200400" y="3733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44956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62520" y="3048120"/>
            <a:ext cx="4572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3048120"/>
            <a:ext cx="0" cy="2361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276720"/>
            <a:ext cx="1676160" cy="2057400"/>
            <a:chOff x="5334120" y="3276720"/>
            <a:chExt cx="1676160" cy="2057400"/>
          </a:xfrm>
        </p:grpSpPr>
        <p:sp>
          <p:nvSpPr>
            <p:cNvPr id="60" name=""/>
            <p:cNvSpPr/>
            <p:nvPr/>
          </p:nvSpPr>
          <p:spPr>
            <a:xfrm>
              <a:off x="594360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4360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4360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3412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412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412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412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53080" y="48769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53080" y="434340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3080" y="380988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3080" y="3276720"/>
              <a:ext cx="45720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5715000"/>
            <a:ext cx="868680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 the x tiles together and remove any that cancel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362320" y="2743200"/>
            <a:ext cx="2209680" cy="2971800"/>
            <a:chOff x="2362320" y="2743200"/>
            <a:chExt cx="2209680" cy="29718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886200" y="2743200"/>
              <a:ext cx="6858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362320" y="2743200"/>
              <a:ext cx="685800" cy="297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05320" y="1523880"/>
            <a:ext cx="1752480" cy="28958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write the formula and sol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28800" y="1828800"/>
                <a:ext cx="558792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80988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167652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-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752480"/>
            <a:ext cx="167652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2819520"/>
            <a:ext cx="1676520" cy="1371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666880" y="4343400"/>
                <a:ext cx="3510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743200" y="533412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533412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181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5520" y="5181480"/>
            <a:ext cx="68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4419720"/>
            <a:ext cx="68580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5562720"/>
            <a:ext cx="68580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343400"/>
            <a:ext cx="2057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 and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981080"/>
            <a:ext cx="480060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ay use tiles to simplify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706400" y="2971800"/>
                <a:ext cx="6035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4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36576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 x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solve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743200" y="1676520"/>
                <a:ext cx="53341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1752480"/>
            <a:ext cx="2362320" cy="9471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ain, think of t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363760" y="2590920"/>
            <a:ext cx="2360520" cy="2257560"/>
            <a:chOff x="2363760" y="2590920"/>
            <a:chExt cx="2360520" cy="2257560"/>
          </a:xfrm>
        </p:grpSpPr>
        <p:sp>
          <p:nvSpPr>
            <p:cNvPr id="101" name=""/>
            <p:cNvSpPr/>
            <p:nvPr/>
          </p:nvSpPr>
          <p:spPr>
            <a:xfrm>
              <a:off x="236376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08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3392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6252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421160" y="2590920"/>
            <a:ext cx="2360520" cy="2257560"/>
            <a:chOff x="4421160" y="2590920"/>
            <a:chExt cx="2360520" cy="2257560"/>
          </a:xfrm>
        </p:grpSpPr>
        <p:sp>
          <p:nvSpPr>
            <p:cNvPr id="107" name=""/>
            <p:cNvSpPr/>
            <p:nvPr/>
          </p:nvSpPr>
          <p:spPr>
            <a:xfrm>
              <a:off x="442116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148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132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9132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992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554520" y="2590920"/>
            <a:ext cx="2360520" cy="2257560"/>
            <a:chOff x="6554520" y="2590920"/>
            <a:chExt cx="2360520" cy="2257560"/>
          </a:xfrm>
        </p:grpSpPr>
        <p:sp>
          <p:nvSpPr>
            <p:cNvPr id="113" name=""/>
            <p:cNvSpPr/>
            <p:nvPr/>
          </p:nvSpPr>
          <p:spPr>
            <a:xfrm>
              <a:off x="6554520" y="2590920"/>
              <a:ext cx="7812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4840" y="3124080"/>
              <a:ext cx="304920" cy="16765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24680" y="342900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4038480"/>
              <a:ext cx="3045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2590920"/>
              <a:ext cx="76176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4724280"/>
            <a:ext cx="3657600" cy="398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s 3 sets of these t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486400"/>
            <a:ext cx="2895840" cy="8625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like tiles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505320" y="5257800"/>
                <a:ext cx="40384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191120" y="6248520"/>
            <a:ext cx="2133360" cy="3988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SOL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81080" y="2666880"/>
            <a:ext cx="3200400" cy="457200"/>
          </a:xfrm>
          <a:custGeom>
            <a:avLst/>
            <a:gdLst>
              <a:gd name="textAreaLeft" fmla="*/ 559800 w 3200400"/>
              <a:gd name="textAreaRight" fmla="*/ 2320200 w 3200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the Same Equation Mathema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05120" y="1828800"/>
                <a:ext cx="53337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228600" y="1752480"/>
            <a:ext cx="1600200" cy="2288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must multiply everything inside the bracket by the number outside the brac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1447920"/>
            <a:ext cx="1447920" cy="5047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7400" y="3581280"/>
                <a:ext cx="12952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49568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81280" y="3581280"/>
                <a:ext cx="15242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410080" y="3505320"/>
            <a:ext cx="2057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= 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4952880"/>
            <a:ext cx="4572000" cy="5814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 solve as usu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289548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 Some Prac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ter your answers into your responders as you solve each to make sure you are “getting” it.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how your work on your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w what happens if you have a variable (letter) on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bo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523880" y="2362320"/>
                <a:ext cx="60962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1066680" y="4191120"/>
            <a:ext cx="6858000" cy="703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a deep breath and realize that there is just ONE MORE STEP and you already know how to deal with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5486400"/>
            <a:ext cx="5715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till have to get all the numbers on one side of the equation and all the letters on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2:51:23Z</dcterms:created>
  <dc:creator>admin</dc:creator>
  <dc:description/>
  <dc:language>en-US</dc:language>
  <cp:lastModifiedBy>admin</cp:lastModifiedBy>
  <dcterms:modified xsi:type="dcterms:W3CDTF">2008-03-30T15:43:03Z</dcterms:modified>
  <cp:revision>11</cp:revision>
  <dc:subject/>
  <dc:title>Now Some MORE steps…</dc:title>
</cp:coreProperties>
</file>